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36637"/>
        <c:axId val="58575298"/>
      </c:barChart>
      <c:catAx>
        <c:axId val="56836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75298"/>
        <c:crosses val="autoZero"/>
        <c:auto val="1"/>
        <c:lblAlgn val="ctr"/>
        <c:lblOffset val="100"/>
        <c:noMultiLvlLbl val="0"/>
      </c:catAx>
      <c:valAx>
        <c:axId val="58575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36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C16-CCAA-468F-878E-8AC2C3E0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EBB-622B-4B53-A28B-5149760D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E17-5D9B-4EFF-BF5F-26D628B0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D14-4889-4B2F-B668-E4DB0F9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087-0047-43E5-8F24-448A917B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B2A-84CD-42C2-9B7E-BE795E7E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DCA-BEF6-42FD-87C1-93956B35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42E-A782-4D18-8D78-48555A45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60A-7188-4743-AD47-B8B1ED74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8F0-600B-4705-9E0C-991C3BE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352-6834-4709-B4AC-D3EFFC93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989-CEDA-407D-8513-497BC8F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6AF48-B6F9-4990-8CE7-71B247F31F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