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37594"/>
        <c:axId val="33346475"/>
      </c:barChart>
      <c:catAx>
        <c:axId val="67037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46475"/>
        <c:crosses val="autoZero"/>
        <c:auto val="1"/>
        <c:lblAlgn val="ctr"/>
        <c:lblOffset val="100"/>
        <c:noMultiLvlLbl val="0"/>
      </c:catAx>
      <c:valAx>
        <c:axId val="33346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37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AB3-7828-4237-9C3D-7F8226AD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602-333A-482D-A1F2-A957291D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ACD-5BD6-4C19-A838-CC85601B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D41-DCC1-47D9-B1C4-B428F5A3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FA7-5684-4141-89D2-DD158F8F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565-A615-4E9D-B6E1-B7AD09CE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B45-4C78-40FE-B2C6-CABDE31F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1B2-E97B-4599-AAAF-59398CC5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4EA-6645-49F6-B8A8-0BC222EB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CF8-8831-4E98-B203-713A365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1AE-059C-4C2B-B2A7-D20A2A2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65B-60A7-4DD2-93B4-51D509D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88EAE-08B7-41E6-BA4C-8FD6280E9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