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35900"/>
        <c:axId val="93456767"/>
      </c:barChart>
      <c:catAx>
        <c:axId val="52035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56767"/>
        <c:crosses val="autoZero"/>
        <c:auto val="1"/>
        <c:lblAlgn val="ctr"/>
        <c:lblOffset val="100"/>
        <c:noMultiLvlLbl val="0"/>
      </c:catAx>
      <c:valAx>
        <c:axId val="93456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35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BD4-0759-4808-958C-C02AA935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C13-BA67-46F7-A44F-2F682A80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EE9-4296-4BAF-A138-D3126D67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5C9-7116-4E28-B7F7-5761EC65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C1D-F2FE-42D1-89E3-EAD16A4E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ED0-6640-49FF-AB3F-94F3A40E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A78-6788-40E1-AC0E-F1D075E4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E33-A7EB-4939-936B-2E23B0C2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5C0-1518-4604-AA0D-40263036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6B7-1029-4307-BEE8-15B2441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583-0881-4628-B4A7-933B5D4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984-0CC2-4D5F-A602-8C35BB8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A7560-EEE7-4FE7-B1D9-FAFC1D41E3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