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16741"/>
        <c:axId val="57450057"/>
      </c:barChart>
      <c:catAx>
        <c:axId val="41216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50057"/>
        <c:crosses val="autoZero"/>
        <c:auto val="1"/>
        <c:lblAlgn val="ctr"/>
        <c:lblOffset val="100"/>
        <c:noMultiLvlLbl val="0"/>
      </c:catAx>
      <c:valAx>
        <c:axId val="57450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16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0C8-57AB-4EFF-8B8A-D8C6001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3F4-D192-43DC-8D86-16271ED5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61A-2B36-4C7F-9FE4-28943426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1FB-08E0-4ED3-AF74-61DEADC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6FE-1141-48FD-9E33-8768243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1BD-5DB3-4A7C-A77B-74A9BA5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DF9-A94C-4925-B171-A4315A5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69C-32DE-4B42-9BB7-0E34E9E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C2E-3990-4243-AA10-FE36E60D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529-B5DC-42C9-A1E4-975C213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ACA-225A-43B6-837A-5A1DFA6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D36-981E-4ACE-A9B5-4B75792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1312-EBBF-4EF7-B567-948C7078FB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