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10699"/>
        <c:axId val="89642411"/>
      </c:barChart>
      <c:catAx>
        <c:axId val="51310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42411"/>
        <c:crosses val="autoZero"/>
        <c:auto val="1"/>
        <c:lblAlgn val="ctr"/>
        <c:lblOffset val="100"/>
        <c:noMultiLvlLbl val="0"/>
      </c:catAx>
      <c:valAx>
        <c:axId val="89642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10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6E7B-02C1-4B46-8680-E207E2B3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3ACF-5FB7-48D2-9C71-9A835F55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2C43-FEC0-4A1D-98EE-2F159DBD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058-9B22-4540-86CB-AE44CBE7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6930-FD2A-4C07-B961-4A9AA14A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2A39-2968-403E-9B07-240ABDB7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963-4976-4957-8B81-3B838C4B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8DFE-3D56-48CE-A537-F4542F8F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6D93-E434-47D6-86CE-7ED7EF62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694-E262-4198-A4C6-6CE0E96F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7AC-69EA-4AC7-BD87-1DCA96FF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F1D9-CB89-464E-B32F-B4607E45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767FA-0D00-4988-83B1-F0C3519201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