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26173"/>
        <c:axId val="49792074"/>
      </c:barChart>
      <c:catAx>
        <c:axId val="33926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92074"/>
        <c:crosses val="autoZero"/>
        <c:auto val="1"/>
        <c:lblAlgn val="ctr"/>
        <c:lblOffset val="100"/>
        <c:noMultiLvlLbl val="0"/>
      </c:catAx>
      <c:valAx>
        <c:axId val="49792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26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D68-7A9A-42B9-B0C0-5201F803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AB2-AD7A-4BD2-92A7-2D4C9DBF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824-F9E9-423E-80C9-1F9BCEEE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822-57D2-4CDC-9B50-60C6E886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F2C-A593-45BB-8202-164B6F96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C8B-8C2C-45F2-85EC-818FED29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F68-0504-4999-8949-38643A94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683A-8923-4BB0-BF38-DE17E21B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59F-E66E-47E6-8417-F918454A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1A6-F396-4E57-94B9-0C41DE08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162-685A-4BB4-A302-16340952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EA1-2E00-40B2-9E4A-97207213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3CA53-1B8D-4BD5-AF34-E930EBB367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