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437176"/>
        <c:axId val="39838593"/>
      </c:barChart>
      <c:catAx>
        <c:axId val="264371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838593"/>
        <c:crosses val="autoZero"/>
        <c:auto val="1"/>
        <c:lblAlgn val="ctr"/>
        <c:lblOffset val="100"/>
        <c:noMultiLvlLbl val="0"/>
      </c:catAx>
      <c:valAx>
        <c:axId val="398385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371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EDF0-DC6E-499E-997D-3239C60A4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1B8F-86A3-461D-800A-439CB94A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C559-D738-42A4-AB02-975453B7F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C91F-D52D-422A-AE9A-E1A34D85C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92AD-76DF-47AE-BE84-3828CA8E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3459-B547-48A8-9CD7-F1CC364E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B19B-070C-40F1-8E4A-E26AD608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8B3C-389E-405C-92AB-E4AC76C6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E41A-9368-4D6B-8F8E-E87B466D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FA5C-1B24-4F58-B48E-5E0E5781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007F-6D0C-44B2-9787-3CA2A6AE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B6BC-B6A2-4C53-BE1E-2ECE24C2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27473-F0DB-4162-8BC4-942AA5EFED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