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08242"/>
        <c:axId val="55711291"/>
      </c:barChart>
      <c:catAx>
        <c:axId val="13308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11291"/>
        <c:crosses val="autoZero"/>
        <c:auto val="1"/>
        <c:lblAlgn val="ctr"/>
        <c:lblOffset val="100"/>
        <c:noMultiLvlLbl val="0"/>
      </c:catAx>
      <c:valAx>
        <c:axId val="55711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08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AC4-98A5-4F12-A24F-C3041761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04E4-5B58-455A-A0AB-E8592788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040-0C30-4249-9B13-A80C5119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CB7-494B-4100-8389-D2B13131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820-AC0F-4B19-980C-41208F91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C30-070E-4092-B54F-DCBC3309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DFC-4801-4E97-AC40-5EFBE15E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FB1-62D5-4BEB-A59F-95145CFA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3A2-8DD6-4C5A-9B39-E676530B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C2E2-0B59-4435-8BF4-8AEA4723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25A-AC1F-4603-85F3-B5F5B66F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276-3835-46BC-8D08-C4B05909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AC6E7-C0A4-4660-AD65-D38EB781A1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