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30239"/>
        <c:axId val="94512281"/>
      </c:barChart>
      <c:catAx>
        <c:axId val="305302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12281"/>
        <c:crosses val="autoZero"/>
        <c:auto val="1"/>
        <c:lblAlgn val="ctr"/>
        <c:lblOffset val="100"/>
        <c:noMultiLvlLbl val="0"/>
      </c:catAx>
      <c:valAx>
        <c:axId val="945122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302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F6D4-69B4-4070-956A-3BA98170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2DC-9623-48D8-B23E-76603AB8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AC0E-07E6-4089-9477-15BBB83B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C890-D97C-479C-AFF1-C7090D11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049E-9B67-431F-A3E9-3A773361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1ED-7893-4EEE-87BA-A6B4C1F6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D227-31E3-43D9-B6E8-B29CDDC7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E12C-DD4C-4DCB-B25A-C5771A9B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660-CA1E-4137-9761-DA47D1E5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E2FD-48FF-4523-92F5-40EEBA02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2E6B-BDA6-4967-AE34-057BFAD8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3360-A34C-471E-A041-24F53402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1BC86-4208-4BBD-8D4F-C41A6099B6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