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70913"/>
        <c:axId val="2202979"/>
      </c:barChart>
      <c:catAx>
        <c:axId val="37870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979"/>
        <c:crosses val="autoZero"/>
        <c:auto val="1"/>
        <c:lblAlgn val="ctr"/>
        <c:lblOffset val="100"/>
        <c:noMultiLvlLbl val="0"/>
      </c:catAx>
      <c:valAx>
        <c:axId val="220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0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003-38AF-4183-8D25-0BD1EB5F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03A-C0E2-463C-A4FE-E22FAAC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E2A-9388-4D79-8374-4E40ADAF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E28-78F5-48CE-ABE4-AFD8E702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A1B-99BC-4B8D-B049-4C00C45B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8C9-B1FD-4E57-A835-793468A4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CA4-F43F-4882-98BE-E3D1F95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10D-4F8D-4B70-9072-EFA093B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125-0E92-41BD-ABC6-065D2DC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23D-A960-4F15-9327-8E4389A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B96-201A-4FBF-B1BE-5744E894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FB5-EC1D-4698-B416-3E703BB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B213-86C5-4A13-974A-C253FB5CB9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