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322147"/>
        <c:axId val="94389719"/>
      </c:barChart>
      <c:catAx>
        <c:axId val="583221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89719"/>
        <c:crosses val="autoZero"/>
        <c:auto val="1"/>
        <c:lblAlgn val="ctr"/>
        <c:lblOffset val="100"/>
        <c:noMultiLvlLbl val="0"/>
      </c:catAx>
      <c:valAx>
        <c:axId val="943897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221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7F63-D3A1-4990-8DA2-E135664EF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3E3D-6ED1-4B8E-A9A1-30B87D72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AC61-2313-470B-A895-DCDEAE7E7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4614-2EDE-4290-A379-9B7AAC8A8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EA0F-5DBE-4CA2-BB02-AB155A56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AE2E-28C1-4D53-B37E-285B4304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6F23-A86E-4A79-B0F9-93734CAD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A9AA-E16D-4C01-9889-A0E11C4D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6EE8-88A7-4492-ADAE-445F5DFB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D0A1-40B0-454D-9EE7-E5424DA1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CACF-C54D-4F27-A1F7-FF7DF1EF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69CB-2F2E-4876-A464-8A45E15B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BD5B5-E406-4A13-8530-E8BEC176DA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