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86353"/>
        <c:axId val="73827203"/>
      </c:barChart>
      <c:catAx>
        <c:axId val="28286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27203"/>
        <c:crosses val="autoZero"/>
        <c:auto val="1"/>
        <c:lblAlgn val="ctr"/>
        <c:lblOffset val="100"/>
        <c:noMultiLvlLbl val="0"/>
      </c:catAx>
      <c:valAx>
        <c:axId val="73827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86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92E-EF4E-4166-85D0-DE40FE01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5AA-27B1-4295-B6AE-AFBC23F6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2B7-6F6C-4D24-BE3D-B5461661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A81-D766-4461-9250-AC6C9E94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556-0209-424D-A5CD-D9C75687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B4B-B536-45A0-9E26-72945BF8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1EA-B3C0-442A-9BB6-F677FDA8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A2D-096F-40B6-98C2-8280D8B2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628-827E-4D4C-96DA-05D1E3A1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971-3BC7-4A8D-B53B-89253015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C88-2D47-4951-B7C0-D5BFEA40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310-E9D3-4654-9581-2CB53681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9B226-F1CE-4F11-938C-F764B9B553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