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73968"/>
        <c:axId val="19036145"/>
      </c:barChart>
      <c:catAx>
        <c:axId val="83073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6145"/>
        <c:crosses val="autoZero"/>
        <c:auto val="1"/>
        <c:lblAlgn val="ctr"/>
        <c:lblOffset val="100"/>
        <c:noMultiLvlLbl val="0"/>
      </c:catAx>
      <c:valAx>
        <c:axId val="19036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3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675-6585-4A64-AB6E-E5078D01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7E1-E8EE-469F-B58E-C4411352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CB3-B1C8-43CE-9378-2790A05B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D2B-83C6-45E5-9FEE-CD55BFBC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C94-80DA-45A2-8124-547BB919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B91-0CF0-44A0-B7F3-48426062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F60-50D8-450C-B501-AEF4F57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F99-66A6-433F-B3BD-9B7C4B2F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0F8-A9FA-4282-AEA2-7B004C34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213-6B33-4A54-B4F9-DF58178D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807-0752-49EA-B6C7-A5E6327A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F02-8C1C-4C9E-B3CA-28B3FF3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75D75-EAEB-4049-91A5-3E58AA401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