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23209"/>
        <c:axId val="72139212"/>
      </c:barChart>
      <c:catAx>
        <c:axId val="40323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39212"/>
        <c:crosses val="autoZero"/>
        <c:auto val="1"/>
        <c:lblAlgn val="ctr"/>
        <c:lblOffset val="100"/>
        <c:noMultiLvlLbl val="0"/>
      </c:catAx>
      <c:valAx>
        <c:axId val="72139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23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443-8C63-4260-BE18-5D57540B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3DE-F4F5-4399-A573-DF03AA67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6DF-A07E-4274-991F-989FB5A6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332-8184-48BB-9C65-A3CA6DB0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F78-0BD5-4A1F-BEDE-E4E4E1F2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C9A-BBFC-400D-B1B3-18D23DC8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179-65E0-4928-B9E2-B41B1355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26C-846B-4CC3-A756-CE8E4C0B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D16-4D0F-4712-A13C-026E6DF8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B29-D1BC-4AB4-B668-D749B306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879-ECB2-43F5-AD6D-5622F578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020-D401-477A-B2E1-AD66B4BC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16EF6-46CA-457A-829E-186B7EF58B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