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34226"/>
        <c:axId val="19098697"/>
      </c:barChart>
      <c:catAx>
        <c:axId val="141342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98697"/>
        <c:crosses val="autoZero"/>
        <c:auto val="1"/>
        <c:lblAlgn val="ctr"/>
        <c:lblOffset val="100"/>
        <c:noMultiLvlLbl val="0"/>
      </c:catAx>
      <c:valAx>
        <c:axId val="19098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342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2A3-93EA-4EBA-97BA-3347F35C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C1B7-70B1-4E64-9A7B-074E3901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80B0-01D0-47D8-A481-F8D45664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A6E-8352-46E1-BA08-E3BF31C2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4D2-175F-488E-8364-2F0FABA0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09E-3B92-4058-A51A-F3578BFE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C4A-EDC2-4FC9-88BA-FBC85203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44A7-7AB7-4AD1-963A-B3102AEC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0D3-5DA1-4D62-B72A-9D2DACA6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F97-BEA0-43BA-963B-CD29B954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967B-1338-4A61-AEBB-27CCB52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397-96CE-4A54-AE62-EA645A34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2FEBC0-DCCC-4D2B-A41B-CE13EE9ECE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