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15739"/>
        <c:axId val="64718588"/>
      </c:barChart>
      <c:catAx>
        <c:axId val="39615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18588"/>
        <c:crosses val="autoZero"/>
        <c:auto val="1"/>
        <c:lblAlgn val="ctr"/>
        <c:lblOffset val="100"/>
        <c:noMultiLvlLbl val="0"/>
      </c:catAx>
      <c:valAx>
        <c:axId val="64718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15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401-1AD6-4379-BA24-72367E43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EDE-3752-48FA-A53F-DFAFD423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637-5152-4F89-BBC9-E46E8A07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349-7D4D-46D6-A2FC-378FC364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EFE-735D-4830-A067-00FB4F00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617-02DD-4F55-AA7A-09E2634E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698-1177-46FB-9F58-696545E1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A01-676B-4190-9BEB-6EFC4075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DB5-48A2-4B90-B8D4-4A64A5BB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692-F459-4112-AAB4-EF262FB6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BBF-93F8-4545-810E-442EB4AF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789-BF79-48B3-9AB9-82FEE000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198DD-0F28-479A-BD4C-DC93B4CF19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