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187680"/>
        <c:axId val="48514838"/>
      </c:barChart>
      <c:catAx>
        <c:axId val="871876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14838"/>
        <c:crosses val="autoZero"/>
        <c:auto val="1"/>
        <c:lblAlgn val="ctr"/>
        <c:lblOffset val="100"/>
        <c:noMultiLvlLbl val="0"/>
      </c:catAx>
      <c:valAx>
        <c:axId val="485148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876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B41B-2938-42A5-9CE2-6FC938E3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FDB4-5E1A-462B-BF8A-1A8AD6CC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3E7E-CC6F-4958-8853-1C10CBA0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300B-6862-4658-93BC-75AAE72D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C483-2C62-4837-977A-A735B72A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DE50-3E82-44F7-BC84-9EE4B5B8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DE8B-537E-49BA-8426-DBA3177E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000C-EF73-41FF-B313-AF2AF36D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91E9-7D21-4D49-A21C-98B8A56F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B854-57E7-484E-A60F-6FB86DE5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A5F4-6FFB-4CC8-9065-5AB0703C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2CA4-EA48-422B-9846-F0D5A846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75245-2E32-44E6-A1B5-C9BF179AC6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