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6927"/>
        <c:axId val="32723800"/>
      </c:barChart>
      <c:catAx>
        <c:axId val="8996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3800"/>
        <c:crosses val="autoZero"/>
        <c:auto val="1"/>
        <c:lblAlgn val="ctr"/>
        <c:lblOffset val="100"/>
        <c:noMultiLvlLbl val="0"/>
      </c:catAx>
      <c:valAx>
        <c:axId val="32723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BF6-F18C-4155-BE00-0182951A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2B0-B927-4AE5-91D8-D528461D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A6B-5242-4080-8C83-0E7C48F7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B7C-5B93-41BF-AA5E-0A2913DB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671-AF7E-4BC9-B8F8-48524DAB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576-09D6-47C9-8DC6-E3A07FDC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893-CA6D-4197-AF56-DB929EAA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CB7-94EB-4915-B807-7E63AB5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79E-70C1-4543-911B-53E5B046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1CE-FFEF-4B0A-A2DC-EAB37EB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AD8-DA73-4313-95B9-C3D6C0B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8C1-A0B6-4525-A5A3-9A87520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52DE8-7D2E-4B48-A42C-3E2613CDC3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