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31685"/>
        <c:axId val="67714855"/>
      </c:barChart>
      <c:catAx>
        <c:axId val="51316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14855"/>
        <c:crosses val="autoZero"/>
        <c:auto val="1"/>
        <c:lblAlgn val="ctr"/>
        <c:lblOffset val="100"/>
        <c:noMultiLvlLbl val="0"/>
      </c:catAx>
      <c:valAx>
        <c:axId val="677148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16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DF8B-F342-470C-A5CB-9FC6DB4F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8A29-931A-4D8E-9564-33F0AC19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8F6C-B381-4CA4-A4C8-673BC045A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1F69-0AC3-4DFF-9AC6-17F31DBFC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6625-017A-4659-A4FB-1D2E9C3F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0290-9DDF-43F6-86CE-1B568094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F825-E604-451F-BA4D-DF573537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98AD-9862-4C32-9527-B55FD584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D4EF-066A-4F1D-8D22-ED01FB8C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6CEC-DA71-4544-A358-2FBB8024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6547-CBEC-4E4D-B8A7-C3EFE71D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87CC-732A-4BA7-98E2-5181654F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55550-DFFD-494B-AE6F-31F64D82B9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