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17847"/>
        <c:axId val="72606140"/>
      </c:barChart>
      <c:catAx>
        <c:axId val="72817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06140"/>
        <c:crosses val="autoZero"/>
        <c:auto val="1"/>
        <c:lblAlgn val="ctr"/>
        <c:lblOffset val="100"/>
        <c:noMultiLvlLbl val="0"/>
      </c:catAx>
      <c:valAx>
        <c:axId val="72606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17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E2F-6F5F-4606-9734-0A6F59BE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2DF-4575-4430-A748-64411E7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2C0-A1EA-4E5E-A981-72D5ED9E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A59-C49F-4754-9A19-936E5A99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0E5-C94A-4248-994D-456FB8A2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29C-799D-4617-98DE-4E558EBF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128-E8AE-49B1-9791-27844F2C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40A-F710-479F-89BE-E8255E0B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FFC-6C2B-4C03-945A-354D1715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BE5-FCD1-4EF0-AF36-FCDFC5A0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46E-D497-4A41-BBF3-7E69B0E7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040-0DDF-4AF7-AB1F-8FDA2DA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786CF-2B50-43D5-A413-F71314B281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