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16293"/>
        <c:axId val="88318529"/>
      </c:barChart>
      <c:catAx>
        <c:axId val="48716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18529"/>
        <c:crosses val="autoZero"/>
        <c:auto val="1"/>
        <c:lblAlgn val="ctr"/>
        <c:lblOffset val="100"/>
        <c:noMultiLvlLbl val="0"/>
      </c:catAx>
      <c:valAx>
        <c:axId val="883185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16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3C0-DA99-406B-BD8C-E74EF14D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7C84-1C81-4E51-A0BF-7E96D6D3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26D-0B32-4896-AD16-F17DC0AC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867-B768-4F81-8783-22C5D2D2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A378-4943-4032-87E4-B039366F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113A-1F7C-4EE9-89B5-628FBA8A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D41-5B1B-4EDD-AC4D-D5AFC2B6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87B-7556-4F21-8CA1-0AE4E6B1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6C9-285D-4B4C-AF0F-C2064CCC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F6A-41AC-45C4-B5F8-EAE80B1E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CA3-04EC-4350-81C3-3795C4FF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5CF-1850-43EF-B677-AACC6305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64DD9-C0FB-40A7-8A97-BFC4C46546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