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75348"/>
        <c:axId val="29952420"/>
      </c:barChart>
      <c:catAx>
        <c:axId val="583753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52420"/>
        <c:crosses val="autoZero"/>
        <c:auto val="1"/>
        <c:lblAlgn val="ctr"/>
        <c:lblOffset val="100"/>
        <c:noMultiLvlLbl val="0"/>
      </c:catAx>
      <c:valAx>
        <c:axId val="29952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753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EDF-2C46-48D0-90AE-63BBFC3E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A1A-9B08-4DBA-9B9C-CBD09862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0F1-2D5C-4E4B-8D22-9B2833DB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8B9-A3F1-48A2-AC6D-5462CD41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826E-BE92-4002-BD6B-66B1156B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5EE-E17D-463C-9D6F-1FADF52E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E63-35A8-4318-B739-A86E51F7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70E-78EE-49AB-8411-AEDE682E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BFA8-744B-4199-A1A3-6C35A199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C69-2F7A-4E75-878E-5798AC7B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A09-24D0-4B9F-BF9B-77951D75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7A8F-E506-461B-A44D-14893AA1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BC905-5C71-4224-A5BD-6FD74D95DF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