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76889"/>
        <c:axId val="18992000"/>
      </c:barChart>
      <c:catAx>
        <c:axId val="33876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92000"/>
        <c:crosses val="autoZero"/>
        <c:auto val="1"/>
        <c:lblAlgn val="ctr"/>
        <c:lblOffset val="100"/>
        <c:noMultiLvlLbl val="0"/>
      </c:catAx>
      <c:valAx>
        <c:axId val="18992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76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E5D-2F98-4A39-BBDC-43E3F0A9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E31-3033-43FC-9763-74CE33A7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62B-9BA3-432F-B5E9-60DA9001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BFE-696F-481C-9E81-6DCF49E7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1B1-B81A-4188-A0FD-C101DCB3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4461-F9D9-4445-8F46-8FFD6CF7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92D-495B-452D-BD9A-A93EEE00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66C-7558-4CFF-9BAD-5C576C18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93E-F339-4556-88CF-053FBA9E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4B3-745C-479E-9715-27E35B1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66D-7EE5-40DC-9033-9DC21A96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B8D-7380-449A-B0F8-2D7DE55C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868B4-DF15-4EE5-9C2D-46DCEF14DB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