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20892"/>
        <c:axId val="86818099"/>
      </c:barChart>
      <c:catAx>
        <c:axId val="94720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18099"/>
        <c:crosses val="autoZero"/>
        <c:auto val="1"/>
        <c:lblAlgn val="ctr"/>
        <c:lblOffset val="100"/>
        <c:noMultiLvlLbl val="0"/>
      </c:catAx>
      <c:valAx>
        <c:axId val="86818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20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DE9-297B-4C7E-A80C-8FAD88B4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A55-971B-42B2-A82B-66490666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0AD-7109-4EDD-B617-1B3C330D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748-7431-4C94-853D-756AEC4A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4F2-B772-483A-8166-29E8027E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32E-7C97-4F56-AC2D-227A50BA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EBD-2E67-4239-BF54-766D8DD8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7D9-B24C-4730-96B6-08CDBA91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F37-AF80-4F0E-8BFA-3EB20AB7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294-9D2C-4271-9834-9B86612B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6E7-D458-4A69-A8E6-D9F9B8D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299-212E-48F3-AE45-AA246F4F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C3B28-1CAE-4C18-93BA-42E515D5A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