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06523"/>
        <c:axId val="3347906"/>
      </c:barChart>
      <c:catAx>
        <c:axId val="40306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7906"/>
        <c:crosses val="autoZero"/>
        <c:auto val="1"/>
        <c:lblAlgn val="ctr"/>
        <c:lblOffset val="100"/>
        <c:noMultiLvlLbl val="0"/>
      </c:catAx>
      <c:valAx>
        <c:axId val="3347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06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F73-1AC3-492B-BF24-0A02C340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242-83F6-469D-9923-44537BAE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B20-E32B-4881-90B7-3593B5FD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43E-EBC2-429D-8413-0A1BDDC7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2DA-E4BD-4908-AF43-7B79B00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C94-6EEF-4625-8282-F07D6664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BD6-37A3-4250-9D34-FDBB18C0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ED5-3D6E-4EB3-A853-A6ED8708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06C-6397-42AD-BE06-34762F1C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C89-5EB1-4ABB-908A-E72E24AA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A9F-F034-41A5-BB61-75BA5F9E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7E9-C366-42B2-8727-4AFBAAD9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7FC6C-685F-4098-A350-910A59AC87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