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88994"/>
        <c:axId val="9563316"/>
      </c:barChart>
      <c:catAx>
        <c:axId val="77588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3316"/>
        <c:crosses val="autoZero"/>
        <c:auto val="1"/>
        <c:lblAlgn val="ctr"/>
        <c:lblOffset val="100"/>
        <c:noMultiLvlLbl val="0"/>
      </c:catAx>
      <c:valAx>
        <c:axId val="9563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88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87E-48A5-471C-A9B2-F5DB7679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537-7B7E-4B19-9E33-BF33D6D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6A9-03B2-4E13-B34C-08EF156C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B22-A3A3-49AB-8C96-46676554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53A-0ABF-4C57-9C9A-9CC2FBE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C3D-35D7-4E26-AF41-FEBEDF2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40C-42C3-4058-B9B9-BBE98F1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832-702F-45BB-883B-36BEA44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EE8-01F0-46CB-BDC1-FAC0503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078-5AA5-490D-90BA-56F60E8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B85-BA77-4C07-B051-7AC73B3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AA9-7777-488A-8018-EC57876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38CC1-3C3F-42DA-99AD-64C0CEAF0D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