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235653"/>
        <c:axId val="88275182"/>
      </c:barChart>
      <c:catAx>
        <c:axId val="723565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8275182"/>
        <c:crosses val="autoZero"/>
        <c:auto val="1"/>
        <c:lblAlgn val="ctr"/>
        <c:lblOffset val="100"/>
        <c:noMultiLvlLbl val="0"/>
      </c:catAx>
      <c:valAx>
        <c:axId val="8827518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3565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CDD7F-5BFF-43C8-89C1-FA28D3DEC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90D4F-2890-4417-8CD4-C67E79E50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F52C3-985B-442F-B6C6-456576502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B00CB-99E3-4898-9CAD-00D93B5D9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ED5D3-664C-4225-BA03-B2C5963D8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CA7FB-A800-4F1F-93AC-D09287893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65564-D1A6-462D-A8EE-61FD8AFF3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B07C4-689C-4019-9FA9-0E340B919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4AB14-E42D-4D5A-AD2D-973CAD831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F9E54-93D2-45C9-B20D-B18029365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993FD-5905-4C3B-863C-8B3F9238E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9E8D8-9D86-49CD-8BD0-8DFCAF4A4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7548A6-B8BD-4FF3-966F-6FAACD85C08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