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89537"/>
        <c:axId val="37950266"/>
      </c:barChart>
      <c:catAx>
        <c:axId val="910895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50266"/>
        <c:crosses val="autoZero"/>
        <c:auto val="1"/>
        <c:lblAlgn val="ctr"/>
        <c:lblOffset val="100"/>
        <c:noMultiLvlLbl val="0"/>
      </c:catAx>
      <c:valAx>
        <c:axId val="37950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895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7367-F91A-4BCE-B118-DFDCC79E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A03-2171-47E0-9E0F-325714BB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595-0E7C-4F23-B5E9-09C04826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3FF-CDB1-4962-9AFB-C9DC4C62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3FE-66FC-46F5-A685-D9E3C89A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898-A101-4191-8A13-EDAD3FF3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D13-ABFF-4CD8-9021-D9984A2E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F838-1B2D-413F-8E1F-6D56E1E4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53F-F93A-4CC7-8EBF-E74A551C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F77-8AD9-4EA7-A709-16316128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D9F0-C355-4CC9-AFC6-ABC35472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B04-FE94-49F8-BBBD-97F17CE7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2395B-1DE1-45BE-A17C-975E92C507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